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253-D0F6-442D-846A-A89D05AC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9A65-52A4-44F3-BC72-45BC7F6C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B8AF-ACDC-4CAD-B32E-93C3966C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5B0-CDC7-4A38-98B9-FA2CA832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9C0-6C78-4FDC-9473-3E32493B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E0A3-6A80-4AFE-A55A-6686888E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03F-DAFA-40CE-A185-63F7A3A1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3CE-6177-4DC5-9F67-EF96006C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C4C9-A3C8-47E1-838F-487ADEDD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1596-051E-4826-9581-2E5C7470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AA3-42D4-4E68-9992-91A6B0E7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FF53-B8FA-418F-B283-BA2CE1A2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D204-72E9-4042-A87D-62AAFE58A2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2781360"/>
            <a:ext cx="5545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8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Section A 1 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1a—1c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71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0"/>
            <a:ext cx="8424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Unit 7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at's the highest mountain in the world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278400"/>
            <a:ext cx="30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3600" y="1268280"/>
            <a:ext cx="86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b  Listen and complete the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677960"/>
            <a:ext cx="864216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Qomolangma is ______ than any other mountain in the world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he Sahara is ____________ desert in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The Caspian Sea is ____________ of all the salt lak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The Nile is _________ river in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11760" y="1628640"/>
            <a:ext cx="1450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1440" y="2965320"/>
            <a:ext cx="2276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bigg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9440" y="4292640"/>
            <a:ext cx="2352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deep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41560" y="5589720"/>
            <a:ext cx="2276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long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8720" y="54936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c  Use the information in 1b to make conversatio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:   </a:t>
            </a: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What’s the highest    mountain in the worl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:   </a:t>
            </a: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Qomolangm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692360" y="1052640"/>
            <a:ext cx="5616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Homework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0360" y="2933640"/>
            <a:ext cx="8247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To memorize the important phra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To make some dialogues about as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ize of obje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:Preview  the words in P5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some students to tell fairy 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o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alk about geography and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students’ listening ski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8760" y="473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3503880" cy="3462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5445000"/>
            <a:ext cx="36720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quare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平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43280" y="2060640"/>
            <a:ext cx="3529080" cy="3262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0" y="5516640"/>
            <a:ext cx="3672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eter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7640" y="392040"/>
            <a:ext cx="524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ck the previe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" y="473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2563920"/>
            <a:ext cx="3671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eep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dj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深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2448000"/>
            <a:ext cx="3672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esert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沙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11640" cy="2620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211640" y="0"/>
            <a:ext cx="4932360" cy="2637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42920" y="3284640"/>
            <a:ext cx="4284720" cy="284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4920" y="6137280"/>
            <a:ext cx="417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opulation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人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570560" y="3278160"/>
            <a:ext cx="4105080" cy="2814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716360" y="6093000"/>
            <a:ext cx="417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sia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亚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8760" y="473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2563920"/>
            <a:ext cx="3671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our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v. 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旅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7640" y="2421000"/>
            <a:ext cx="41036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ourist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旅行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2560" y="6021360"/>
            <a:ext cx="273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all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5761080"/>
            <a:ext cx="36003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mazing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dj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 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令人大为惊奇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2200" y="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903920" y="-27000"/>
            <a:ext cx="2692440" cy="270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4920" y="3357720"/>
            <a:ext cx="4249800" cy="2600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4356000" y="3225960"/>
            <a:ext cx="4464000" cy="2579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8760" y="473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11280" y="1557360"/>
            <a:ext cx="4535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ncient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dj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古代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4076640"/>
            <a:ext cx="33829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ide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dj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宽的；宽阔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4520" y="444600"/>
            <a:ext cx="3849840" cy="2984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780000" y="3716280"/>
            <a:ext cx="5076720" cy="2927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6920" y="71280"/>
            <a:ext cx="838836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o you know these interest pl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66560" y="1125360"/>
            <a:ext cx="8137440" cy="3184560"/>
            <a:chOff x="466560" y="1125360"/>
            <a:chExt cx="8137440" cy="3184560"/>
          </a:xfrm>
        </p:grpSpPr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466560" y="1125360"/>
              <a:ext cx="813744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078520" y="1269720"/>
              <a:ext cx="327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Qomolangm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58760" y="473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6360" y="4365720"/>
            <a:ext cx="824364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omolangm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runs along the border between China and Nepal. It is covered with snow all the year round. It’s 8844.43 high, the highest in the world. It’s 26 kilometers long.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zxx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4200" y="476280"/>
            <a:ext cx="7921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a   Match the facts you k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46040" y="1515960"/>
          <a:ext cx="8229600" cy="4721400"/>
        </p:xfrm>
        <a:graphic>
          <a:graphicData uri="http://schemas.openxmlformats.org/drawingml/2006/table">
            <a:tbl>
              <a:tblPr/>
              <a:tblGrid>
                <a:gridCol w="3097080"/>
                <a:gridCol w="5132520"/>
              </a:tblGrid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omolangma 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 9,600,000 square kilometers in siz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Sahara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25 meters deep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Caspian Sea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671 kilometers long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Nil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844.43 meters high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3059280" y="1989000"/>
            <a:ext cx="1152360" cy="331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00360" y="1844280"/>
            <a:ext cx="1295280" cy="1297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050920" y="4221000"/>
            <a:ext cx="2160720" cy="115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843280" y="2997360"/>
            <a:ext cx="1584360" cy="1296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8880" y="11592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3T17:15:11Z</dcterms:created>
  <dc:creator/>
  <dc:description/>
  <dc:language>en-US</dc:language>
  <cp:lastModifiedBy/>
  <dcterms:modified xsi:type="dcterms:W3CDTF">2015-04-06T09:14:29Z</dcterms:modified>
  <cp:revision>1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